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DD0-A2C6-48CE-9B5A-A563A6A7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EEA-8DCB-420F-9FBC-26E069FC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814-2F9B-4532-974C-4329E8B2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298-14D2-4A80-B506-7B58C30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8D82-4B48-4F1A-852F-BC7719C9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8AB6-8D8B-4B0D-AB78-3824172A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F0C9-7167-4CB9-BC2A-3A1D00B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0FC4-E7E1-4271-8B9C-F89B8D7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496-5083-4411-92C0-BB6810C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371-1931-45CE-9666-3920008F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9D0C-D5BB-4ED3-9AB5-0A7F0F5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35C-70D1-4487-9563-B36945B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15D5-5EB6-452B-9B00-03F65270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190-8578-43A5-888B-16856DB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9435-4798-42E1-93B3-61FEEF3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C4F-A751-4293-B277-5FCE0A91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457D-2A50-421F-9478-FFC42576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998A5-93F1-482A-99C3-93FB827D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732D-1958-4C59-9467-DC74FFA1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80A2-8B5E-4FA0-9F9D-4C6E069F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1CFF-5419-4610-997F-8423E52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77A8-6CC1-4FA3-A9D9-DC2B35E1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61D-4AE3-4B6A-A9A4-66930653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0830-8E34-46FC-B558-D96794A1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F07C-B9C6-4EC1-A394-3E86D59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C2D4-E649-407F-8862-DCFAC282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A6E0-BC88-46E6-9F8C-A218A9C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4EBE-2236-4108-8646-EE14F0E0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54D0-D7EE-4130-9D94-63ED8011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CA28-0D09-45A4-ABFE-FDC5F3D7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B3A-A4A9-47EC-A63E-1FE5C661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39E-684F-4E0E-BF55-5C854A47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8D6-828A-478F-AD12-9768EAD7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81D-B5A7-45F3-BD61-D9A8AD6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7B3-69CC-48B5-A9B4-9C02B43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71D-B65C-451F-994B-2463C78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7ED4-2D96-43E6-A23F-27B78E900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0EB6-FE9D-40D4-9F0E-57E1D198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1572-F094-4158-9F3C-251FFFFECB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13ff"/>
                </a:solidFill>
                <a:latin typeface="Arial"/>
              </a:rPr>
              <a:t>IMMIGRANTS AND URBA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666520" y="342864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 BECOMES A MELTING POT IN THE LAT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amp; EARLY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mmigrants4"/>
          <p:cNvPicPr/>
          <p:nvPr/>
        </p:nvPicPr>
        <p:blipFill>
          <a:blip r:embed="rId1"/>
          <a:stretch/>
        </p:blipFill>
        <p:spPr>
          <a:xfrm>
            <a:off x="233280" y="3124080"/>
            <a:ext cx="2586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ANGEL ISLAND, SAN FRANCIS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ns, primarily Chinese, arriving on the West Coast gained admission at Angel Island in the San Francisco B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was much harsher than Ellis Island as immigrants withstood tough questioning and long detentions in filth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angel island7"/>
          <p:cNvPicPr/>
          <p:nvPr/>
        </p:nvPicPr>
        <p:blipFill>
          <a:blip r:embed="rId1"/>
          <a:stretch/>
        </p:blipFill>
        <p:spPr>
          <a:xfrm>
            <a:off x="304920" y="1752480"/>
            <a:ext cx="434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ngelisland,%20chin%20detention%20bldg,%201910"/>
          <p:cNvPicPr/>
          <p:nvPr/>
        </p:nvPicPr>
        <p:blipFill>
          <a:blip r:embed="rId1"/>
          <a:stretch/>
        </p:blipFill>
        <p:spPr>
          <a:xfrm>
            <a:off x="533520" y="272880"/>
            <a:ext cx="8153280" cy="5747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828800" y="6095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GEL ISLAND WAS CONSIDERED MORE HARSH THAN ELLIS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FRICTION DEVELOP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495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some immigrants tried to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assimi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American culture, others kept to themselves and created ethnic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d to their own culture, but also trying hard to become Americans, many came to think of themselves as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 Italian-Americans, Polish-Americans, Chinese-America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native born Americans disliked the immigrants unfamiliar customs and languages –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fri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o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hina_town"/>
          <p:cNvPicPr/>
          <p:nvPr/>
        </p:nvPicPr>
        <p:blipFill>
          <a:blip r:embed="rId1"/>
          <a:stretch/>
        </p:blipFill>
        <p:spPr>
          <a:xfrm>
            <a:off x="4724280" y="1600200"/>
            <a:ext cx="3733920" cy="4419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441972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towns are found in many       majo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IMMIGRANT RESTRI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mmigration increased, so did anti-immigrant feelings among 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Nativi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avoritism toward native-born Americans) led to anti-immigrant organizations  and governmental restrictions against 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882, Congress passed 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Chinese Exclusion 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limited Chinese immigration until 1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ChineseExclusionActPoster1883"/>
          <p:cNvPicPr/>
          <p:nvPr/>
        </p:nvPicPr>
        <p:blipFill>
          <a:blip r:embed="rId1"/>
          <a:stretch/>
        </p:blipFill>
        <p:spPr>
          <a:xfrm>
            <a:off x="609480" y="1371600"/>
            <a:ext cx="364500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85800" y="6095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-Asian feelings included restaurant boyco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SECTION 2: THE CHALLENGES OF URBAN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urbanization occurred 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in the Northeast &amp; Mid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Most immigrants settled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c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of the available jobs &amp; affordable 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1910, immigrants made up more than half the population of 18 major American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Clevel1"/>
          <p:cNvPicPr/>
          <p:nvPr/>
        </p:nvPicPr>
        <p:blipFill>
          <a:blip r:embed="rId1"/>
          <a:stretch/>
        </p:blipFill>
        <p:spPr>
          <a:xfrm>
            <a:off x="4648320" y="1752480"/>
            <a:ext cx="419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MIGRATION FROM </a:t>
            </a:r>
            <a:br>
              <a:rPr sz="3800"/>
            </a:b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COUNTRY TO C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improvements i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farm 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ractors, reapers, steel plows) made farming more efficient 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so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meant less lab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needed to do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rural people left for cities to find work- including almost ¼ millio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african american migration 4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353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80880" y="54100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ion and segregation were often the reality for African Americans who migrated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frican american migration"/>
          <p:cNvPicPr/>
          <p:nvPr/>
        </p:nvPicPr>
        <p:blipFill>
          <a:blip r:embed="rId1"/>
          <a:stretch/>
        </p:blipFill>
        <p:spPr>
          <a:xfrm>
            <a:off x="838080" y="250920"/>
            <a:ext cx="7848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URBAN PROBLEM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American cities 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arly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313ff"/>
                </a:solidFill>
                <a:uFillTx/>
                <a:latin typeface="Arial"/>
              </a:rPr>
              <a:t>Hous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crowded tenements were unsa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313ff"/>
                </a:solidFill>
                <a:uFillTx/>
                <a:latin typeface="Arial"/>
              </a:rPr>
              <a:t>Sanitation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arbage was often not collected, polluted a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riis4"/>
          <p:cNvPicPr/>
          <p:nvPr/>
        </p:nvPicPr>
        <p:blipFill>
          <a:blip r:embed="rId1"/>
          <a:stretch/>
        </p:blipFill>
        <p:spPr>
          <a:xfrm>
            <a:off x="4419720" y="175248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4648320" y="57913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ous photographer </a:t>
            </a:r>
            <a:r>
              <a:rPr b="1" lang="en-US" sz="1800" spc="-1" strike="noStrike">
                <a:solidFill>
                  <a:srgbClr val="1313ff"/>
                </a:solidFill>
                <a:latin typeface="Arial"/>
              </a:rPr>
              <a:t>Jacob Ri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ptured the struggle of living in crowded te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URBAN PROBLEMS CONTINU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Transpor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 struggled to provide adequate transi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Wat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Without safe drinking water  cholera and typhoid fever was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Crim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s populations increased thieves flour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Fi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Limited water supply and wooden structures combined with the use of candles led to many major urban fires – Chicago 1871 and San Francisco 1906 were two major f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chicago-fire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3733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304920" y="56386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per’s Weekly image of Chicagoans fleeing the fire over the Randolph Street bridge in 18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HOTOGRAPHER JACOB RIIS CAPTURED IMAGES OF THE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riis1"/>
          <p:cNvPicPr/>
          <p:nvPr/>
        </p:nvPicPr>
        <p:blipFill>
          <a:blip r:embed="rId1"/>
          <a:stretch/>
        </p:blipFill>
        <p:spPr>
          <a:xfrm>
            <a:off x="2411280" y="1523880"/>
            <a:ext cx="444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13ff"/>
                </a:solidFill>
                <a:latin typeface="Arial"/>
              </a:rPr>
              <a:t>SECTION 1:THE NEW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Millions of immigra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tered the U.S. in the late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arly 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ame to  escape difficult conditions, others known as </a:t>
            </a: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“birds of passage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nded to stay only temporarily to earn money, and then return to their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birds of passage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riisportrait"/>
          <p:cNvPicPr/>
          <p:nvPr/>
        </p:nvPicPr>
        <p:blipFill>
          <a:blip r:embed="rId1"/>
          <a:stretch/>
        </p:blipFill>
        <p:spPr>
          <a:xfrm>
            <a:off x="1447920" y="1177920"/>
            <a:ext cx="6324480" cy="4638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58672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riis12"/>
          <p:cNvPicPr/>
          <p:nvPr/>
        </p:nvPicPr>
        <p:blipFill>
          <a:blip r:embed="rId1"/>
          <a:stretch/>
        </p:blipFill>
        <p:spPr>
          <a:xfrm>
            <a:off x="1905120" y="1081080"/>
            <a:ext cx="5486400" cy="4938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59436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riis3"/>
          <p:cNvPicPr/>
          <p:nvPr/>
        </p:nvPicPr>
        <p:blipFill>
          <a:blip r:embed="rId1"/>
          <a:stretch/>
        </p:blipFill>
        <p:spPr>
          <a:xfrm>
            <a:off x="1828800" y="1025640"/>
            <a:ext cx="5257800" cy="51465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5257800" y="63244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48640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riis5"/>
          <p:cNvPicPr/>
          <p:nvPr/>
        </p:nvPicPr>
        <p:blipFill>
          <a:blip r:embed="rId1"/>
          <a:stretch/>
        </p:blipFill>
        <p:spPr>
          <a:xfrm>
            <a:off x="1981080" y="1239840"/>
            <a:ext cx="4953240" cy="4711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52578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Riis_StreetArabs1"/>
          <p:cNvPicPr/>
          <p:nvPr/>
        </p:nvPicPr>
        <p:blipFill>
          <a:blip r:embed="rId1"/>
          <a:stretch/>
        </p:blipFill>
        <p:spPr>
          <a:xfrm>
            <a:off x="1752480" y="1203480"/>
            <a:ext cx="5639040" cy="4735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5943600" y="6019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iisBanditsRoost"/>
          <p:cNvPicPr/>
          <p:nvPr/>
        </p:nvPicPr>
        <p:blipFill>
          <a:blip r:embed="rId1"/>
          <a:stretch/>
        </p:blipFill>
        <p:spPr>
          <a:xfrm>
            <a:off x="1905120" y="909720"/>
            <a:ext cx="5181480" cy="5111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5486400" y="6095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REFORMERS MOBILIZ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cob Riis was a reformer who through his pictures hoped for change– he influenced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Social Gospel Mov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ached salvation through service to th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formers established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Settlement H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homes provided a place to stay, classes, health care and other so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Jane Adda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the most famous member of the Settlement Movement (founded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Hull Ho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Chic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addams"/>
          <p:cNvPicPr/>
          <p:nvPr/>
        </p:nvPicPr>
        <p:blipFill>
          <a:blip r:embed="rId1"/>
          <a:stretch/>
        </p:blipFill>
        <p:spPr>
          <a:xfrm>
            <a:off x="4648320" y="1447920"/>
            <a:ext cx="2590560" cy="3047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hull house"/>
          <p:cNvPicPr/>
          <p:nvPr/>
        </p:nvPicPr>
        <p:blipFill>
          <a:blip r:embed="rId2"/>
          <a:stretch/>
        </p:blipFill>
        <p:spPr>
          <a:xfrm>
            <a:off x="5486400" y="4267080"/>
            <a:ext cx="3352680" cy="2349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7391520" y="2133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e Addams and Hull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SECTION 3: POLITICS IN THE GILDED 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cities grew in the late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y, so did </a:t>
            </a: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political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 machines controlled the activities of a political party in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d bosses, precinct captains, and the city boss worked to ensure their candidate was el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boss tweed"/>
          <p:cNvPicPr/>
          <p:nvPr/>
        </p:nvPicPr>
        <p:blipFill>
          <a:blip r:embed="rId1"/>
          <a:stretch/>
        </p:blipFill>
        <p:spPr>
          <a:xfrm>
            <a:off x="380880" y="1600200"/>
            <a:ext cx="4270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ROLE OF THE POLITICAL BO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he “Bos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ypically the mayor) controlled jobs, business licenses, and influenced the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nct captains and ward bosses were often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 immigrants so they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helped immigra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naturalization, jobs, and housing in exchange for v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boss_1_e"/>
          <p:cNvPicPr/>
          <p:nvPr/>
        </p:nvPicPr>
        <p:blipFill>
          <a:blip r:embed="rId1"/>
          <a:stretch/>
        </p:blipFill>
        <p:spPr>
          <a:xfrm>
            <a:off x="4648320" y="1825560"/>
            <a:ext cx="4038480" cy="4078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6"/>
          <p:cNvSpPr/>
          <p:nvPr/>
        </p:nvSpPr>
        <p:spPr>
          <a:xfrm>
            <a:off x="525780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ss Tweed ran N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MUNICIPAL GRAFT AND SCAND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95680" y="14475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olitical bosses wer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co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olitical machines used fake names and voted multiple times to ensure victory (“Vote early and often”) – called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Election 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Graft (brib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common among political 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contracts often resulted i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“kick-bac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ct that police forces were hired by the boss prevented close scru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lection fraud"/>
          <p:cNvPicPr/>
          <p:nvPr/>
        </p:nvPicPr>
        <p:blipFill>
          <a:blip r:embed="rId1"/>
          <a:stretch/>
        </p:blipFill>
        <p:spPr>
          <a:xfrm>
            <a:off x="976320" y="2133720"/>
            <a:ext cx="279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1313ff"/>
                </a:solidFill>
                <a:latin typeface="Arial"/>
              </a:rPr>
              <a:t>EUROPEAN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870 and 1920, about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20 million Europe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ived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1890, most were from western and north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1890, most came from southern and ea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wer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looking for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migrants2"/>
          <p:cNvPicPr/>
          <p:nvPr/>
        </p:nvPicPr>
        <p:blipFill>
          <a:blip r:embed="rId1"/>
          <a:stretch/>
        </p:blipFill>
        <p:spPr>
          <a:xfrm>
            <a:off x="384120" y="1828800"/>
            <a:ext cx="4111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THE TWEED RING SCAND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am M. Tweed, known as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Boss Twe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ecame head of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ammany H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YC’s powerful Democratic politic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869-1871, Tweed led 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weed 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group of corrupt politicians, in defrauding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ed was indicted on 120 counts of fraud and ex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ed was sentenced to 12 years in jail – released after one, arrested again, and escaped to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boss t"/>
          <p:cNvPicPr/>
          <p:nvPr/>
        </p:nvPicPr>
        <p:blipFill>
          <a:blip r:embed="rId1"/>
          <a:stretch/>
        </p:blipFill>
        <p:spPr>
          <a:xfrm>
            <a:off x="4800600" y="1523880"/>
            <a:ext cx="2630520" cy="2667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tweed"/>
          <p:cNvPicPr/>
          <p:nvPr/>
        </p:nvPicPr>
        <p:blipFill>
          <a:blip r:embed="rId2"/>
          <a:stretch/>
        </p:blipFill>
        <p:spPr>
          <a:xfrm>
            <a:off x="6391440" y="4267080"/>
            <a:ext cx="2217600" cy="23623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3"/>
          <p:cNvSpPr/>
          <p:nvPr/>
        </p:nvSpPr>
        <p:spPr>
          <a:xfrm>
            <a:off x="739152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ss Tw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CIVIL SERVICE REPLACES PATRON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ly, some politicians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pushed for refor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hiring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ystem had been based on </a:t>
            </a:r>
            <a:r>
              <a:rPr b="1" i="1" lang="en-US" sz="2000" spc="-1" strike="noStrike">
                <a:solidFill>
                  <a:srgbClr val="1313ff"/>
                </a:solidFill>
                <a:latin typeface="Arial"/>
              </a:rPr>
              <a:t>Patronag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ing jobs and favors to those who helped a candidate get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ormers pushed for an adoption of a merit system of hiring the most qualified for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The Pendleton Civil Service Act of 188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thorized a bipartisan commission to make appointments for federal jobs based on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civil service exams"/>
          <p:cNvPicPr/>
          <p:nvPr/>
        </p:nvPicPr>
        <p:blipFill>
          <a:blip r:embed="rId1"/>
          <a:stretch/>
        </p:blipFill>
        <p:spPr>
          <a:xfrm>
            <a:off x="882720" y="1600200"/>
            <a:ext cx="3155760" cy="4191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914400" y="57913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nts for federal jobs are required to take a Civil Service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1313ff"/>
                </a:solidFill>
                <a:latin typeface="Arial"/>
              </a:rPr>
              <a:t>CHINESE</a:t>
            </a:r>
            <a:r>
              <a:rPr b="1" lang="en-US" sz="6200" spc="-1" strike="noStrike">
                <a:solidFill>
                  <a:srgbClr val="1313ff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ween 1851 and 1882, about </a:t>
            </a: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300,000 Chine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 on the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were attracted by the Gold Rush, others went to work for the railroads, farmed or worked as domestic serv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An anti-Chinese immigration 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y Congress curtailed immigration after 18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hinese"/>
          <p:cNvPicPr/>
          <p:nvPr/>
        </p:nvPicPr>
        <p:blipFill>
          <a:blip r:embed="rId1"/>
          <a:stretch/>
        </p:blipFill>
        <p:spPr>
          <a:xfrm>
            <a:off x="4986360" y="1752480"/>
            <a:ext cx="3333600" cy="4038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52578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hinese men worked for the rail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1313ff"/>
                </a:solidFill>
                <a:latin typeface="Arial"/>
              </a:rPr>
              <a:t>JAPANES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884, the Japanese government allowed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Hawaiian plan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recruit Japanes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.S. annexation of Hawaii in 1898 increased Japanese immigration to the west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1920, more tha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200,000 Japane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ved on the west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apanese 5"/>
          <p:cNvPicPr/>
          <p:nvPr/>
        </p:nvPicPr>
        <p:blipFill>
          <a:blip r:embed="rId1"/>
          <a:stretch/>
        </p:blipFill>
        <p:spPr>
          <a:xfrm>
            <a:off x="658800" y="1600200"/>
            <a:ext cx="355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THE WEST INDIES AND MEX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880 and 1920, about 260,000 immigrants arrived in the eastern and southeastern United States form 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West In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me from Jamaica, Cuba, Puerto Rico, and other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Mexicans, too, immig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U.S. to find work and flee political turmoil – 700,000 Mexicans arrived in the early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uba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LIFE IN THE NEW LA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most immigrants arrived via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b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p from Europe  took about a month, while it took about 3 weeks  from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rip was ardu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ny died alo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was Ellis Island for Europeans, and Angel Island for A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immigrants88"/>
          <p:cNvPicPr/>
          <p:nvPr/>
        </p:nvPicPr>
        <p:blipFill>
          <a:blip r:embed="rId1"/>
          <a:stretch/>
        </p:blipFill>
        <p:spPr>
          <a:xfrm>
            <a:off x="534960" y="1523880"/>
            <a:ext cx="385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ELLIS ISLAND, NEW YO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is Island was the arrival point for Europea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ad to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pass insp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the immigratio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took hours, and the sick were sen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nts also had to show that they were not criminals, ha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 ($25), and were ab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892-1924,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17 mill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igrants passed through Ellis Island’s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Ellis island"/>
          <p:cNvPicPr/>
          <p:nvPr/>
        </p:nvPicPr>
        <p:blipFill>
          <a:blip r:embed="rId1"/>
          <a:stretch/>
        </p:blipFill>
        <p:spPr>
          <a:xfrm>
            <a:off x="4648320" y="1600200"/>
            <a:ext cx="4182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457200" y="6019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LLIS ISLAND, NEW YORK HAR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ellis_island_l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2:34:38Z</dcterms:created>
  <dc:creator>Grace</dc:creator>
  <dc:description/>
  <dc:language>en-US</dc:language>
  <cp:lastModifiedBy>Grace</cp:lastModifiedBy>
  <dcterms:modified xsi:type="dcterms:W3CDTF">2016-04-26T02:39:27Z</dcterms:modified>
  <cp:revision>10</cp:revision>
  <dc:subject/>
  <dc:title>IMMIGRANTS AND URBANIZATION</dc:title>
</cp:coreProperties>
</file>